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6A2-E8CD-4B4D-A3DB-AD7F5A75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C4CE-A998-4CB1-B948-4ACEDBF7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C5B-9669-4611-90F8-48DAB43B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F2DD-F1EB-4444-88AB-593C3AFB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D18-0C2D-4858-9F9C-F00AB70F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257-199A-4ADB-A0E9-1B56D416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DA4-E785-443B-ADFC-6F8271A3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0F8-6B51-4A5E-8A87-7A8B1F8D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893F-0DB0-457E-86E7-D51AFB83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DC0-022B-4F0A-A4F3-245802A0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1C1-4C68-4F67-98D3-4D8058FD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C18-A438-47C2-ABF6-7BD7038B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CCD8-6946-419C-B128-BE67688CD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Подготовка к ЕГЭ:тригон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Rectangle 3"/>
              <p:cNvSpPr txBox="1"/>
              <p:nvPr/>
            </p:nvSpPr>
            <p:spPr>
              <a:xfrm>
                <a:off x="324000" y="189000"/>
                <a:ext cx="3887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Rectangle 3"/>
              <p:cNvSpPr txBox="1"/>
              <p:nvPr/>
            </p:nvSpPr>
            <p:spPr>
              <a:xfrm>
                <a:off x="324000" y="1268280"/>
                <a:ext cx="316836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Rectangle 3"/>
              <p:cNvSpPr txBox="1"/>
              <p:nvPr/>
            </p:nvSpPr>
            <p:spPr>
              <a:xfrm>
                <a:off x="324000" y="3213000"/>
                <a:ext cx="3168360" cy="167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Rectangle 3"/>
              <p:cNvSpPr txBox="1"/>
              <p:nvPr/>
            </p:nvSpPr>
            <p:spPr>
              <a:xfrm>
                <a:off x="324000" y="5229360"/>
                <a:ext cx="31683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292720" y="260280"/>
            <a:ext cx="3024360" cy="79236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82417" h="21600">
                <a:moveTo>
                  <a:pt x="0" y="0"/>
                </a:moveTo>
                <a:lnTo>
                  <a:pt x="82417" y="0"/>
                </a:lnTo>
                <a:lnTo>
                  <a:pt x="82417" y="21600"/>
                </a:lnTo>
                <a:lnTo>
                  <a:pt x="0" y="21600"/>
                </a:lnTo>
                <a:close/>
              </a:path>
              <a:path fill="lightenLess" w="82417" h="21600">
                <a:moveTo>
                  <a:pt x="0" y="0"/>
                </a:moveTo>
                <a:lnTo>
                  <a:pt x="82417" y="0"/>
                </a:lnTo>
                <a:lnTo>
                  <a:pt x="81018" y="1400"/>
                </a:lnTo>
                <a:lnTo>
                  <a:pt x="1400" y="1400"/>
                </a:lnTo>
                <a:close/>
              </a:path>
              <a:path fill="darken" w="82417" h="21600">
                <a:moveTo>
                  <a:pt x="82417" y="0"/>
                </a:moveTo>
                <a:lnTo>
                  <a:pt x="82417" y="21600"/>
                </a:lnTo>
                <a:lnTo>
                  <a:pt x="81018" y="20200"/>
                </a:lnTo>
                <a:lnTo>
                  <a:pt x="81018" y="1400"/>
                </a:lnTo>
                <a:close/>
              </a:path>
              <a:path fill="darkenLess" w="82417" h="21600">
                <a:moveTo>
                  <a:pt x="82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18" y="20200"/>
                </a:lnTo>
                <a:close/>
              </a:path>
              <a:path fill="lighten" w="82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1700280"/>
            <a:ext cx="3024360" cy="79200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82455" h="21600">
                <a:moveTo>
                  <a:pt x="0" y="0"/>
                </a:moveTo>
                <a:lnTo>
                  <a:pt x="82455" y="0"/>
                </a:lnTo>
                <a:lnTo>
                  <a:pt x="82455" y="21600"/>
                </a:lnTo>
                <a:lnTo>
                  <a:pt x="0" y="21600"/>
                </a:lnTo>
                <a:close/>
              </a:path>
              <a:path fill="lightenLess" w="82455" h="21600">
                <a:moveTo>
                  <a:pt x="0" y="0"/>
                </a:moveTo>
                <a:lnTo>
                  <a:pt x="82455" y="0"/>
                </a:lnTo>
                <a:lnTo>
                  <a:pt x="81055" y="1400"/>
                </a:lnTo>
                <a:lnTo>
                  <a:pt x="1400" y="1400"/>
                </a:lnTo>
                <a:close/>
              </a:path>
              <a:path fill="darken" w="82455" h="21600">
                <a:moveTo>
                  <a:pt x="82455" y="0"/>
                </a:moveTo>
                <a:lnTo>
                  <a:pt x="82455" y="21600"/>
                </a:lnTo>
                <a:lnTo>
                  <a:pt x="81055" y="20200"/>
                </a:lnTo>
                <a:lnTo>
                  <a:pt x="81055" y="1400"/>
                </a:lnTo>
                <a:close/>
              </a:path>
              <a:path fill="darkenLess" w="82455" h="21600">
                <a:moveTo>
                  <a:pt x="8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55" y="20200"/>
                </a:lnTo>
                <a:close/>
              </a:path>
              <a:path fill="lighten" w="8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0" y="3573360"/>
            <a:ext cx="3024360" cy="79236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82417" h="21600">
                <a:moveTo>
                  <a:pt x="0" y="0"/>
                </a:moveTo>
                <a:lnTo>
                  <a:pt x="82417" y="0"/>
                </a:lnTo>
                <a:lnTo>
                  <a:pt x="82417" y="21600"/>
                </a:lnTo>
                <a:lnTo>
                  <a:pt x="0" y="21600"/>
                </a:lnTo>
                <a:close/>
              </a:path>
              <a:path fill="lightenLess" w="82417" h="21600">
                <a:moveTo>
                  <a:pt x="0" y="0"/>
                </a:moveTo>
                <a:lnTo>
                  <a:pt x="82417" y="0"/>
                </a:lnTo>
                <a:lnTo>
                  <a:pt x="81018" y="1400"/>
                </a:lnTo>
                <a:lnTo>
                  <a:pt x="1400" y="1400"/>
                </a:lnTo>
                <a:close/>
              </a:path>
              <a:path fill="darken" w="82417" h="21600">
                <a:moveTo>
                  <a:pt x="82417" y="0"/>
                </a:moveTo>
                <a:lnTo>
                  <a:pt x="82417" y="21600"/>
                </a:lnTo>
                <a:lnTo>
                  <a:pt x="81018" y="20200"/>
                </a:lnTo>
                <a:lnTo>
                  <a:pt x="81018" y="1400"/>
                </a:lnTo>
                <a:close/>
              </a:path>
              <a:path fill="darkenLess" w="82417" h="21600">
                <a:moveTo>
                  <a:pt x="82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18" y="20200"/>
                </a:lnTo>
                <a:close/>
              </a:path>
              <a:path fill="lighten" w="82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64000" y="5445000"/>
            <a:ext cx="3024360" cy="79236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82417" h="21600">
                <a:moveTo>
                  <a:pt x="0" y="0"/>
                </a:moveTo>
                <a:lnTo>
                  <a:pt x="82417" y="0"/>
                </a:lnTo>
                <a:lnTo>
                  <a:pt x="82417" y="21600"/>
                </a:lnTo>
                <a:lnTo>
                  <a:pt x="0" y="21600"/>
                </a:lnTo>
                <a:close/>
              </a:path>
              <a:path fill="lightenLess" w="82417" h="21600">
                <a:moveTo>
                  <a:pt x="0" y="0"/>
                </a:moveTo>
                <a:lnTo>
                  <a:pt x="82417" y="0"/>
                </a:lnTo>
                <a:lnTo>
                  <a:pt x="81018" y="1400"/>
                </a:lnTo>
                <a:lnTo>
                  <a:pt x="1400" y="1400"/>
                </a:lnTo>
                <a:close/>
              </a:path>
              <a:path fill="darken" w="82417" h="21600">
                <a:moveTo>
                  <a:pt x="82417" y="0"/>
                </a:moveTo>
                <a:lnTo>
                  <a:pt x="82417" y="21600"/>
                </a:lnTo>
                <a:lnTo>
                  <a:pt x="81018" y="20200"/>
                </a:lnTo>
                <a:lnTo>
                  <a:pt x="81018" y="1400"/>
                </a:lnTo>
                <a:close/>
              </a:path>
              <a:path fill="darkenLess" w="82417" h="21600">
                <a:moveTo>
                  <a:pt x="82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18" y="20200"/>
                </a:lnTo>
                <a:close/>
              </a:path>
              <a:path fill="lighten" w="82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endshow"/>
          </p:cNvPr>
          <p:cNvSpPr/>
          <p:nvPr/>
        </p:nvSpPr>
        <p:spPr>
          <a:xfrm>
            <a:off x="3851280" y="6426360"/>
            <a:ext cx="2376360" cy="431640"/>
          </a:xfrm>
          <a:custGeom>
            <a:avLst/>
            <a:gdLst>
              <a:gd name="textAreaLeft" fmla="*/ 27720 w 2376360"/>
              <a:gd name="textAreaRight" fmla="*/ 2348640 w 23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836" h="21600">
                <a:moveTo>
                  <a:pt x="0" y="0"/>
                </a:moveTo>
                <a:lnTo>
                  <a:pt x="118836" y="0"/>
                </a:lnTo>
                <a:lnTo>
                  <a:pt x="118836" y="21600"/>
                </a:lnTo>
                <a:lnTo>
                  <a:pt x="0" y="21600"/>
                </a:lnTo>
                <a:close/>
              </a:path>
              <a:path fill="lightenLess" w="118836" h="21600">
                <a:moveTo>
                  <a:pt x="0" y="0"/>
                </a:moveTo>
                <a:lnTo>
                  <a:pt x="118836" y="0"/>
                </a:lnTo>
                <a:lnTo>
                  <a:pt x="117436" y="1400"/>
                </a:lnTo>
                <a:lnTo>
                  <a:pt x="1400" y="1400"/>
                </a:lnTo>
                <a:close/>
              </a:path>
              <a:path fill="darken" w="118836" h="21600">
                <a:moveTo>
                  <a:pt x="118836" y="0"/>
                </a:moveTo>
                <a:lnTo>
                  <a:pt x="118836" y="21600"/>
                </a:lnTo>
                <a:lnTo>
                  <a:pt x="117436" y="20200"/>
                </a:lnTo>
                <a:lnTo>
                  <a:pt x="117436" y="1400"/>
                </a:lnTo>
                <a:close/>
              </a:path>
              <a:path fill="darkenLess" w="118836" h="21600">
                <a:moveTo>
                  <a:pt x="11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436" y="20200"/>
                </a:lnTo>
                <a:close/>
              </a:path>
              <a:path fill="lighten" w="11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16000" y="3357720"/>
            <a:ext cx="720108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Rectangle 3"/>
              <p:cNvSpPr txBox="1"/>
              <p:nvPr/>
            </p:nvSpPr>
            <p:spPr>
              <a:xfrm>
                <a:off x="1116000" y="1413000"/>
                <a:ext cx="7056360" cy="28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2484360" y="5229360"/>
            <a:ext cx="3527640" cy="720720"/>
          </a:xfrm>
          <a:custGeom>
            <a:avLst/>
            <a:gdLst>
              <a:gd name="textAreaLeft" fmla="*/ 46440 w 3527640"/>
              <a:gd name="textAreaRight" fmla="*/ 3481200 w 3527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81" h="21600">
                <a:moveTo>
                  <a:pt x="0" y="0"/>
                </a:moveTo>
                <a:lnTo>
                  <a:pt x="105681" y="0"/>
                </a:lnTo>
                <a:lnTo>
                  <a:pt x="105681" y="21600"/>
                </a:lnTo>
                <a:lnTo>
                  <a:pt x="0" y="21600"/>
                </a:lnTo>
                <a:close/>
              </a:path>
              <a:path fill="lightenLess" w="105681" h="21600">
                <a:moveTo>
                  <a:pt x="0" y="0"/>
                </a:moveTo>
                <a:lnTo>
                  <a:pt x="105681" y="0"/>
                </a:lnTo>
                <a:lnTo>
                  <a:pt x="104282" y="1400"/>
                </a:lnTo>
                <a:lnTo>
                  <a:pt x="1400" y="1400"/>
                </a:lnTo>
                <a:close/>
              </a:path>
              <a:path fill="darken" w="105681" h="21600">
                <a:moveTo>
                  <a:pt x="105681" y="0"/>
                </a:moveTo>
                <a:lnTo>
                  <a:pt x="105681" y="21600"/>
                </a:lnTo>
                <a:lnTo>
                  <a:pt x="104282" y="20200"/>
                </a:lnTo>
                <a:lnTo>
                  <a:pt x="104282" y="1400"/>
                </a:lnTo>
                <a:close/>
              </a:path>
              <a:path fill="darkenLess" w="105681" h="21600">
                <a:moveTo>
                  <a:pt x="105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82" y="20200"/>
                </a:lnTo>
                <a:close/>
              </a:path>
              <a:path fill="lighten" w="105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00720" y="4581360"/>
            <a:ext cx="3816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4076640"/>
            <a:ext cx="4248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Rectangle 3"/>
              <p:cNvSpPr txBox="1"/>
              <p:nvPr/>
            </p:nvSpPr>
            <p:spPr>
              <a:xfrm>
                <a:off x="395280" y="333360"/>
                <a:ext cx="410832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Rectangle 3"/>
              <p:cNvSpPr txBox="1"/>
              <p:nvPr/>
            </p:nvSpPr>
            <p:spPr>
              <a:xfrm>
                <a:off x="4716360" y="333360"/>
                <a:ext cx="4287960" cy="540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2556000" y="5950080"/>
            <a:ext cx="3527280" cy="720720"/>
          </a:xfrm>
          <a:custGeom>
            <a:avLst/>
            <a:gdLst>
              <a:gd name="textAreaLeft" fmla="*/ 46440 w 3527280"/>
              <a:gd name="textAreaRight" fmla="*/ 3480840 w 35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71" h="21600">
                <a:moveTo>
                  <a:pt x="0" y="0"/>
                </a:moveTo>
                <a:lnTo>
                  <a:pt x="105671" y="0"/>
                </a:lnTo>
                <a:lnTo>
                  <a:pt x="105671" y="21600"/>
                </a:lnTo>
                <a:lnTo>
                  <a:pt x="0" y="21600"/>
                </a:lnTo>
                <a:close/>
              </a:path>
              <a:path fill="lightenLess" w="105671" h="21600">
                <a:moveTo>
                  <a:pt x="0" y="0"/>
                </a:moveTo>
                <a:lnTo>
                  <a:pt x="105671" y="0"/>
                </a:lnTo>
                <a:lnTo>
                  <a:pt x="104271" y="1400"/>
                </a:lnTo>
                <a:lnTo>
                  <a:pt x="1400" y="1400"/>
                </a:lnTo>
                <a:close/>
              </a:path>
              <a:path fill="darken" w="105671" h="21600">
                <a:moveTo>
                  <a:pt x="105671" y="0"/>
                </a:moveTo>
                <a:lnTo>
                  <a:pt x="105671" y="21600"/>
                </a:lnTo>
                <a:lnTo>
                  <a:pt x="104271" y="20200"/>
                </a:lnTo>
                <a:lnTo>
                  <a:pt x="104271" y="1400"/>
                </a:lnTo>
                <a:close/>
              </a:path>
              <a:path fill="darkenLess" w="105671" h="21600">
                <a:moveTo>
                  <a:pt x="105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71" y="20200"/>
                </a:lnTo>
                <a:close/>
              </a:path>
              <a:path fill="lighten" w="105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050920" y="4724280"/>
            <a:ext cx="396108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Rectangle 3"/>
              <p:cNvSpPr txBox="1"/>
              <p:nvPr/>
            </p:nvSpPr>
            <p:spPr>
              <a:xfrm>
                <a:off x="2268360" y="260280"/>
                <a:ext cx="4268880" cy="547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2556000" y="6137280"/>
            <a:ext cx="3527280" cy="720720"/>
          </a:xfrm>
          <a:custGeom>
            <a:avLst/>
            <a:gdLst>
              <a:gd name="textAreaLeft" fmla="*/ 46440 w 3527280"/>
              <a:gd name="textAreaRight" fmla="*/ 3480840 w 35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71" h="21600">
                <a:moveTo>
                  <a:pt x="0" y="0"/>
                </a:moveTo>
                <a:lnTo>
                  <a:pt x="105671" y="0"/>
                </a:lnTo>
                <a:lnTo>
                  <a:pt x="105671" y="21600"/>
                </a:lnTo>
                <a:lnTo>
                  <a:pt x="0" y="21600"/>
                </a:lnTo>
                <a:close/>
              </a:path>
              <a:path fill="lightenLess" w="105671" h="21600">
                <a:moveTo>
                  <a:pt x="0" y="0"/>
                </a:moveTo>
                <a:lnTo>
                  <a:pt x="105671" y="0"/>
                </a:lnTo>
                <a:lnTo>
                  <a:pt x="104271" y="1400"/>
                </a:lnTo>
                <a:lnTo>
                  <a:pt x="1400" y="1400"/>
                </a:lnTo>
                <a:close/>
              </a:path>
              <a:path fill="darken" w="105671" h="21600">
                <a:moveTo>
                  <a:pt x="105671" y="0"/>
                </a:moveTo>
                <a:lnTo>
                  <a:pt x="105671" y="21600"/>
                </a:lnTo>
                <a:lnTo>
                  <a:pt x="104271" y="20200"/>
                </a:lnTo>
                <a:lnTo>
                  <a:pt x="104271" y="1400"/>
                </a:lnTo>
                <a:close/>
              </a:path>
              <a:path fill="darkenLess" w="105671" h="21600">
                <a:moveTo>
                  <a:pt x="105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71" y="20200"/>
                </a:lnTo>
                <a:close/>
              </a:path>
              <a:path fill="lighten" w="105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76360" y="3500280"/>
            <a:ext cx="518472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Rectangle 3"/>
              <p:cNvSpPr txBox="1"/>
              <p:nvPr/>
            </p:nvSpPr>
            <p:spPr>
              <a:xfrm>
                <a:off x="1835280" y="189000"/>
                <a:ext cx="446724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556000" y="5805360"/>
            <a:ext cx="3527280" cy="720720"/>
          </a:xfrm>
          <a:custGeom>
            <a:avLst/>
            <a:gdLst>
              <a:gd name="textAreaLeft" fmla="*/ 46440 w 3527280"/>
              <a:gd name="textAreaRight" fmla="*/ 3480840 w 35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71" h="21600">
                <a:moveTo>
                  <a:pt x="0" y="0"/>
                </a:moveTo>
                <a:lnTo>
                  <a:pt x="105671" y="0"/>
                </a:lnTo>
                <a:lnTo>
                  <a:pt x="105671" y="21600"/>
                </a:lnTo>
                <a:lnTo>
                  <a:pt x="0" y="21600"/>
                </a:lnTo>
                <a:close/>
              </a:path>
              <a:path fill="lightenLess" w="105671" h="21600">
                <a:moveTo>
                  <a:pt x="0" y="0"/>
                </a:moveTo>
                <a:lnTo>
                  <a:pt x="105671" y="0"/>
                </a:lnTo>
                <a:lnTo>
                  <a:pt x="104271" y="1400"/>
                </a:lnTo>
                <a:lnTo>
                  <a:pt x="1400" y="1400"/>
                </a:lnTo>
                <a:close/>
              </a:path>
              <a:path fill="darken" w="105671" h="21600">
                <a:moveTo>
                  <a:pt x="105671" y="0"/>
                </a:moveTo>
                <a:lnTo>
                  <a:pt x="105671" y="21600"/>
                </a:lnTo>
                <a:lnTo>
                  <a:pt x="104271" y="20200"/>
                </a:lnTo>
                <a:lnTo>
                  <a:pt x="104271" y="1400"/>
                </a:lnTo>
                <a:close/>
              </a:path>
              <a:path fill="darkenLess" w="105671" h="21600">
                <a:moveTo>
                  <a:pt x="105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71" y="20200"/>
                </a:lnTo>
                <a:close/>
              </a:path>
              <a:path fill="lighten" w="105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рать из чисел те, которые принадлежат промежутку [0;2π]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3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1130400" cy="12967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6877080" y="1484280"/>
            <a:ext cx="816120" cy="194472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3" descr=""/>
          <p:cNvPicPr/>
          <p:nvPr/>
        </p:nvPicPr>
        <p:blipFill>
          <a:blip r:embed="rId3"/>
          <a:stretch/>
        </p:blipFill>
        <p:spPr>
          <a:xfrm>
            <a:off x="395280" y="4149720"/>
            <a:ext cx="1058760" cy="1728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284720" y="3789360"/>
            <a:ext cx="1439640" cy="1424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195640" y="3716280"/>
            <a:ext cx="1422360" cy="16812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3" descr=""/>
          <p:cNvPicPr/>
          <p:nvPr/>
        </p:nvPicPr>
        <p:blipFill>
          <a:blip r:embed="rId6"/>
          <a:stretch/>
        </p:blipFill>
        <p:spPr>
          <a:xfrm>
            <a:off x="6732720" y="3860640"/>
            <a:ext cx="1014120" cy="165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643280" y="1628640"/>
            <a:ext cx="1040040" cy="1681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2484360" y="1628640"/>
            <a:ext cx="1095480" cy="16812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28"/>
          <p:cNvSpPr/>
          <p:nvPr/>
        </p:nvSpPr>
        <p:spPr>
          <a:xfrm>
            <a:off x="2987640" y="3141720"/>
            <a:ext cx="1008000" cy="6490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9"/>
          <p:cNvSpPr/>
          <p:nvPr/>
        </p:nvSpPr>
        <p:spPr>
          <a:xfrm>
            <a:off x="5219640" y="3284640"/>
            <a:ext cx="1008000" cy="6490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"/>
          <p:cNvSpPr/>
          <p:nvPr/>
        </p:nvSpPr>
        <p:spPr>
          <a:xfrm>
            <a:off x="5435640" y="1341360"/>
            <a:ext cx="914400" cy="609840"/>
          </a:xfrm>
          <a:prstGeom prst="wedgeRectCallout">
            <a:avLst>
              <a:gd name="adj1" fmla="val -56597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3"/>
          <p:cNvSpPr/>
          <p:nvPr/>
        </p:nvSpPr>
        <p:spPr>
          <a:xfrm>
            <a:off x="7596360" y="3500280"/>
            <a:ext cx="914400" cy="609840"/>
          </a:xfrm>
          <a:prstGeom prst="wedgeRectCallout">
            <a:avLst>
              <a:gd name="adj1" fmla="val -56773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4"/>
          <p:cNvSpPr/>
          <p:nvPr/>
        </p:nvSpPr>
        <p:spPr>
          <a:xfrm>
            <a:off x="1116000" y="4005360"/>
            <a:ext cx="914400" cy="609480"/>
          </a:xfrm>
          <a:prstGeom prst="wedgeRectCallout">
            <a:avLst>
              <a:gd name="adj1" fmla="val -56597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5"/>
          <p:cNvSpPr/>
          <p:nvPr/>
        </p:nvSpPr>
        <p:spPr>
          <a:xfrm>
            <a:off x="7596360" y="1268280"/>
            <a:ext cx="914400" cy="609840"/>
          </a:xfrm>
          <a:prstGeom prst="wedgeRectCallout">
            <a:avLst>
              <a:gd name="adj1" fmla="val -56597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6"/>
          <p:cNvSpPr/>
          <p:nvPr/>
        </p:nvSpPr>
        <p:spPr>
          <a:xfrm>
            <a:off x="755640" y="1341360"/>
            <a:ext cx="1130400" cy="609840"/>
          </a:xfrm>
          <a:prstGeom prst="wedgeRectCallout">
            <a:avLst>
              <a:gd name="adj1" fmla="val -36236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7"/>
          <p:cNvSpPr/>
          <p:nvPr/>
        </p:nvSpPr>
        <p:spPr>
          <a:xfrm>
            <a:off x="3348000" y="1268280"/>
            <a:ext cx="1130400" cy="609840"/>
          </a:xfrm>
          <a:prstGeom prst="wedgeRectCallout">
            <a:avLst>
              <a:gd name="adj1" fmla="val -36375"/>
              <a:gd name="adj2" fmla="val 12213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6443640" y="6165720"/>
            <a:ext cx="2232000" cy="503280"/>
          </a:xfrm>
          <a:custGeom>
            <a:avLst/>
            <a:gdLst>
              <a:gd name="textAreaLeft" fmla="*/ 32400 w 2232000"/>
              <a:gd name="textAreaRight" fmla="*/ 2199600 w 223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95741" h="21600">
                <a:moveTo>
                  <a:pt x="0" y="0"/>
                </a:moveTo>
                <a:lnTo>
                  <a:pt x="95741" y="0"/>
                </a:lnTo>
                <a:lnTo>
                  <a:pt x="95741" y="21600"/>
                </a:lnTo>
                <a:lnTo>
                  <a:pt x="0" y="21600"/>
                </a:lnTo>
                <a:close/>
              </a:path>
              <a:path fill="lightenLess" w="95741" h="21600">
                <a:moveTo>
                  <a:pt x="0" y="0"/>
                </a:moveTo>
                <a:lnTo>
                  <a:pt x="95741" y="0"/>
                </a:lnTo>
                <a:lnTo>
                  <a:pt x="94341" y="1400"/>
                </a:lnTo>
                <a:lnTo>
                  <a:pt x="1400" y="1400"/>
                </a:lnTo>
                <a:close/>
              </a:path>
              <a:path fill="darken" w="95741" h="21600">
                <a:moveTo>
                  <a:pt x="95741" y="0"/>
                </a:moveTo>
                <a:lnTo>
                  <a:pt x="95741" y="21600"/>
                </a:lnTo>
                <a:lnTo>
                  <a:pt x="94341" y="20200"/>
                </a:lnTo>
                <a:lnTo>
                  <a:pt x="94341" y="1400"/>
                </a:lnTo>
                <a:close/>
              </a:path>
              <a:path fill="darkenLess" w="95741" h="21600">
                <a:moveTo>
                  <a:pt x="95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341" y="20200"/>
                </a:lnTo>
                <a:close/>
              </a:path>
              <a:path fill="lighten" w="95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741" h="21600">
                <a:moveTo>
                  <a:pt x="40864" y="3794"/>
                </a:moveTo>
                <a:lnTo>
                  <a:pt x="54877" y="10800"/>
                </a:lnTo>
                <a:lnTo>
                  <a:pt x="4086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бери верные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5040360" cy="64764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64" name="Rectangle 3" descr=""/>
          <p:cNvPicPr/>
          <p:nvPr/>
        </p:nvPicPr>
        <p:blipFill>
          <a:blip r:embed="rId2"/>
          <a:stretch/>
        </p:blipFill>
        <p:spPr>
          <a:xfrm>
            <a:off x="1979640" y="2708280"/>
            <a:ext cx="5040360" cy="7272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65" name="Rectangle 3" descr=""/>
          <p:cNvPicPr/>
          <p:nvPr/>
        </p:nvPicPr>
        <p:blipFill>
          <a:blip r:embed="rId3"/>
          <a:stretch/>
        </p:blipFill>
        <p:spPr>
          <a:xfrm>
            <a:off x="1979640" y="3789360"/>
            <a:ext cx="5113440" cy="8604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66" name="Rectangle 3"/>
              <p:cNvSpPr txBox="1"/>
              <p:nvPr/>
            </p:nvSpPr>
            <p:spPr>
              <a:xfrm>
                <a:off x="1979640" y="5157720"/>
                <a:ext cx="51134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AutoShape 15"/>
          <p:cNvSpPr/>
          <p:nvPr/>
        </p:nvSpPr>
        <p:spPr>
          <a:xfrm>
            <a:off x="7093080" y="2205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7164360" y="3429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7"/>
          <p:cNvSpPr/>
          <p:nvPr/>
        </p:nvSpPr>
        <p:spPr>
          <a:xfrm>
            <a:off x="7093080" y="105264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8"/>
          <p:cNvSpPr/>
          <p:nvPr/>
        </p:nvSpPr>
        <p:spPr>
          <a:xfrm>
            <a:off x="7236000" y="4653000"/>
            <a:ext cx="122364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6084720" y="6165720"/>
            <a:ext cx="2087640" cy="432000"/>
          </a:xfrm>
          <a:custGeom>
            <a:avLst/>
            <a:gdLst>
              <a:gd name="textAreaLeft" fmla="*/ 27720 w 2087640"/>
              <a:gd name="textAreaRight" fmla="*/ 2059920 w 208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4313" h="21600">
                <a:moveTo>
                  <a:pt x="0" y="0"/>
                </a:moveTo>
                <a:lnTo>
                  <a:pt x="104313" y="0"/>
                </a:lnTo>
                <a:lnTo>
                  <a:pt x="104313" y="21600"/>
                </a:lnTo>
                <a:lnTo>
                  <a:pt x="0" y="21600"/>
                </a:lnTo>
                <a:close/>
              </a:path>
              <a:path fill="lightenLess" w="104313" h="21600">
                <a:moveTo>
                  <a:pt x="0" y="0"/>
                </a:moveTo>
                <a:lnTo>
                  <a:pt x="104313" y="0"/>
                </a:lnTo>
                <a:lnTo>
                  <a:pt x="102913" y="1400"/>
                </a:lnTo>
                <a:lnTo>
                  <a:pt x="1400" y="1400"/>
                </a:lnTo>
                <a:close/>
              </a:path>
              <a:path fill="darken" w="104313" h="21600">
                <a:moveTo>
                  <a:pt x="104313" y="0"/>
                </a:moveTo>
                <a:lnTo>
                  <a:pt x="104313" y="21600"/>
                </a:lnTo>
                <a:lnTo>
                  <a:pt x="102913" y="20200"/>
                </a:lnTo>
                <a:lnTo>
                  <a:pt x="102913" y="1400"/>
                </a:lnTo>
                <a:close/>
              </a:path>
              <a:path fill="darkenLess" w="104313" h="21600">
                <a:moveTo>
                  <a:pt x="104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913" y="20200"/>
                </a:lnTo>
                <a:close/>
              </a:path>
              <a:path fill="lighten" w="104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4313" h="21600">
                <a:moveTo>
                  <a:pt x="45150" y="3794"/>
                </a:moveTo>
                <a:lnTo>
                  <a:pt x="59163" y="10800"/>
                </a:lnTo>
                <a:lnTo>
                  <a:pt x="45150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ерите уравнения, имеющие ре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ьте себ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щелкни по верному, на твой взгляд, уравнению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6948360" y="5877000"/>
            <a:ext cx="1871640" cy="431640"/>
          </a:xfrm>
          <a:custGeom>
            <a:avLst/>
            <a:gdLst>
              <a:gd name="textAreaLeft" fmla="*/ 27720 w 1871640"/>
              <a:gd name="textAreaRight" fmla="*/ 1843920 w 18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2736720" cy="7794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6" name="Rectangle 3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2521080" cy="74772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7" name="Rectangle 3" descr=""/>
          <p:cNvPicPr/>
          <p:nvPr/>
        </p:nvPicPr>
        <p:blipFill>
          <a:blip r:embed="rId3"/>
          <a:stretch/>
        </p:blipFill>
        <p:spPr>
          <a:xfrm>
            <a:off x="250920" y="4778280"/>
            <a:ext cx="2808360" cy="78588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8" name="Rectangle 3" descr=""/>
          <p:cNvPicPr/>
          <p:nvPr/>
        </p:nvPicPr>
        <p:blipFill>
          <a:blip r:embed="rId4"/>
          <a:stretch/>
        </p:blipFill>
        <p:spPr>
          <a:xfrm>
            <a:off x="5292720" y="3933720"/>
            <a:ext cx="2519280" cy="66204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24000" y="404640"/>
            <a:ext cx="2592360" cy="8082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250920" y="1557360"/>
            <a:ext cx="2665440" cy="7920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5219640" y="2781360"/>
            <a:ext cx="2592360" cy="70308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250920" y="2708280"/>
            <a:ext cx="2770200" cy="182736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sp>
        <p:nvSpPr>
          <p:cNvPr id="83" name="AutoShape 27"/>
          <p:cNvSpPr/>
          <p:nvPr/>
        </p:nvSpPr>
        <p:spPr>
          <a:xfrm>
            <a:off x="7740720" y="189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8"/>
          <p:cNvSpPr/>
          <p:nvPr/>
        </p:nvSpPr>
        <p:spPr>
          <a:xfrm>
            <a:off x="7667640" y="1268280"/>
            <a:ext cx="122400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9"/>
          <p:cNvSpPr/>
          <p:nvPr/>
        </p:nvSpPr>
        <p:spPr>
          <a:xfrm>
            <a:off x="3059280" y="4437000"/>
            <a:ext cx="122364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0"/>
          <p:cNvSpPr/>
          <p:nvPr/>
        </p:nvSpPr>
        <p:spPr>
          <a:xfrm>
            <a:off x="7740720" y="3573360"/>
            <a:ext cx="122400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1"/>
          <p:cNvSpPr/>
          <p:nvPr/>
        </p:nvSpPr>
        <p:spPr>
          <a:xfrm>
            <a:off x="2987640" y="189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2"/>
          <p:cNvSpPr/>
          <p:nvPr/>
        </p:nvSpPr>
        <p:spPr>
          <a:xfrm>
            <a:off x="2916360" y="1268280"/>
            <a:ext cx="122400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3"/>
          <p:cNvSpPr/>
          <p:nvPr/>
        </p:nvSpPr>
        <p:spPr>
          <a:xfrm>
            <a:off x="7920000" y="2492280"/>
            <a:ext cx="1224000" cy="609840"/>
          </a:xfrm>
          <a:prstGeom prst="wedgeRectCallout">
            <a:avLst>
              <a:gd name="adj1" fmla="val -61930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4"/>
          <p:cNvSpPr/>
          <p:nvPr/>
        </p:nvSpPr>
        <p:spPr>
          <a:xfrm>
            <a:off x="2987640" y="292428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5796000" y="6093000"/>
            <a:ext cx="2232000" cy="504720"/>
          </a:xfrm>
          <a:custGeom>
            <a:avLst/>
            <a:gdLst>
              <a:gd name="textAreaLeft" fmla="*/ 32400 w 2232000"/>
              <a:gd name="textAreaRight" fmla="*/ 2199600 w 223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5468" h="21600">
                <a:moveTo>
                  <a:pt x="0" y="0"/>
                </a:moveTo>
                <a:lnTo>
                  <a:pt x="95468" y="0"/>
                </a:lnTo>
                <a:lnTo>
                  <a:pt x="95468" y="21600"/>
                </a:lnTo>
                <a:lnTo>
                  <a:pt x="0" y="21600"/>
                </a:lnTo>
                <a:close/>
              </a:path>
              <a:path fill="lightenLess" w="95468" h="21600">
                <a:moveTo>
                  <a:pt x="0" y="0"/>
                </a:moveTo>
                <a:lnTo>
                  <a:pt x="95468" y="0"/>
                </a:lnTo>
                <a:lnTo>
                  <a:pt x="94068" y="1400"/>
                </a:lnTo>
                <a:lnTo>
                  <a:pt x="1400" y="1400"/>
                </a:lnTo>
                <a:close/>
              </a:path>
              <a:path fill="darken" w="95468" h="21600">
                <a:moveTo>
                  <a:pt x="95468" y="0"/>
                </a:moveTo>
                <a:lnTo>
                  <a:pt x="95468" y="21600"/>
                </a:lnTo>
                <a:lnTo>
                  <a:pt x="94068" y="20200"/>
                </a:lnTo>
                <a:lnTo>
                  <a:pt x="94068" y="1400"/>
                </a:lnTo>
                <a:close/>
              </a:path>
              <a:path fill="darkenLess" w="95468" h="21600">
                <a:moveTo>
                  <a:pt x="95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068" y="20200"/>
                </a:lnTo>
                <a:close/>
              </a:path>
              <a:path fill="lighten" w="95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468" h="21600">
                <a:moveTo>
                  <a:pt x="40728" y="3794"/>
                </a:moveTo>
                <a:lnTo>
                  <a:pt x="54740" y="10800"/>
                </a:lnTo>
                <a:lnTo>
                  <a:pt x="4072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ите уравнения, предложенное на слай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ьте себ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щелкните по верному, на твой взгляд, ответ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6443640" y="6021360"/>
            <a:ext cx="1944720" cy="432000"/>
          </a:xfrm>
          <a:custGeom>
            <a:avLst/>
            <a:gdLst>
              <a:gd name="textAreaLeft" fmla="*/ 27720 w 1944720"/>
              <a:gd name="textAreaRight" fmla="*/ 1917000 w 194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97173" h="21600">
                <a:moveTo>
                  <a:pt x="0" y="0"/>
                </a:moveTo>
                <a:lnTo>
                  <a:pt x="97173" y="0"/>
                </a:lnTo>
                <a:lnTo>
                  <a:pt x="97173" y="21600"/>
                </a:lnTo>
                <a:lnTo>
                  <a:pt x="0" y="21600"/>
                </a:lnTo>
                <a:close/>
              </a:path>
              <a:path fill="lightenLess" w="97173" h="21600">
                <a:moveTo>
                  <a:pt x="0" y="0"/>
                </a:moveTo>
                <a:lnTo>
                  <a:pt x="97173" y="0"/>
                </a:lnTo>
                <a:lnTo>
                  <a:pt x="95773" y="1400"/>
                </a:lnTo>
                <a:lnTo>
                  <a:pt x="1400" y="1400"/>
                </a:lnTo>
                <a:close/>
              </a:path>
              <a:path fill="darken" w="97173" h="21600">
                <a:moveTo>
                  <a:pt x="97173" y="0"/>
                </a:moveTo>
                <a:lnTo>
                  <a:pt x="97173" y="21600"/>
                </a:lnTo>
                <a:lnTo>
                  <a:pt x="95773" y="20200"/>
                </a:lnTo>
                <a:lnTo>
                  <a:pt x="95773" y="1400"/>
                </a:lnTo>
                <a:close/>
              </a:path>
              <a:path fill="darkenLess" w="97173" h="21600">
                <a:moveTo>
                  <a:pt x="97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73" y="20200"/>
                </a:lnTo>
                <a:close/>
              </a:path>
              <a:path fill="lighten" w="97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173" h="21600">
                <a:moveTo>
                  <a:pt x="41580" y="3794"/>
                </a:moveTo>
                <a:lnTo>
                  <a:pt x="55593" y="10800"/>
                </a:lnTo>
                <a:lnTo>
                  <a:pt x="41580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Rectangle 3"/>
              <p:cNvSpPr txBox="1"/>
              <p:nvPr/>
            </p:nvSpPr>
            <p:spPr>
              <a:xfrm>
                <a:off x="2987640" y="3514680"/>
                <a:ext cx="33130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916360" y="404640"/>
                <a:ext cx="34239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68360" y="2349360"/>
                <a:ext cx="26636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492360" y="2349360"/>
                <a:ext cx="254340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480000" y="2349360"/>
                <a:ext cx="266400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111600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436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84360" y="5661000"/>
                <a:ext cx="19080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35280" y="5661000"/>
                <a:ext cx="2030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588000" y="5805360"/>
                <a:ext cx="2121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971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501336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6877080" y="6381720"/>
            <a:ext cx="2087640" cy="289080"/>
          </a:xfrm>
          <a:custGeom>
            <a:avLst/>
            <a:gdLst>
              <a:gd name="textAreaLeft" fmla="*/ 18720 w 2087640"/>
              <a:gd name="textAreaRight" fmla="*/ 2068920 w 208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55821" h="21600">
                <a:moveTo>
                  <a:pt x="0" y="0"/>
                </a:moveTo>
                <a:lnTo>
                  <a:pt x="155821" y="0"/>
                </a:lnTo>
                <a:lnTo>
                  <a:pt x="155821" y="21600"/>
                </a:lnTo>
                <a:lnTo>
                  <a:pt x="0" y="21600"/>
                </a:lnTo>
                <a:close/>
              </a:path>
              <a:path fill="lightenLess" w="155821" h="21600">
                <a:moveTo>
                  <a:pt x="0" y="0"/>
                </a:moveTo>
                <a:lnTo>
                  <a:pt x="155821" y="0"/>
                </a:lnTo>
                <a:lnTo>
                  <a:pt x="154421" y="1400"/>
                </a:lnTo>
                <a:lnTo>
                  <a:pt x="1400" y="1400"/>
                </a:lnTo>
                <a:close/>
              </a:path>
              <a:path fill="darken" w="155821" h="21600">
                <a:moveTo>
                  <a:pt x="155821" y="0"/>
                </a:moveTo>
                <a:lnTo>
                  <a:pt x="155821" y="21600"/>
                </a:lnTo>
                <a:lnTo>
                  <a:pt x="154421" y="20200"/>
                </a:lnTo>
                <a:lnTo>
                  <a:pt x="154421" y="1400"/>
                </a:lnTo>
                <a:close/>
              </a:path>
              <a:path fill="darkenLess" w="155821" h="21600">
                <a:moveTo>
                  <a:pt x="155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421" y="20200"/>
                </a:lnTo>
                <a:close/>
              </a:path>
              <a:path fill="lighten" w="155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55821" h="21600">
                <a:moveTo>
                  <a:pt x="70904" y="3794"/>
                </a:moveTo>
                <a:lnTo>
                  <a:pt x="84917" y="10800"/>
                </a:lnTo>
                <a:lnTo>
                  <a:pt x="7090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Rectangle 3"/>
              <p:cNvSpPr txBox="1"/>
              <p:nvPr/>
            </p:nvSpPr>
            <p:spPr>
              <a:xfrm>
                <a:off x="2987640" y="3613320"/>
                <a:ext cx="3313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71640" y="0"/>
                <a:ext cx="364968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0920" y="2349360"/>
                <a:ext cx="270036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132000" y="2349360"/>
                <a:ext cx="29527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372360" y="2349360"/>
                <a:ext cx="27716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11600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436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23840" y="5661000"/>
                <a:ext cx="28479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971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808440" y="5661000"/>
                <a:ext cx="2263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504120" y="5661000"/>
                <a:ext cx="2639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2089080" cy="333360"/>
          </a:xfrm>
          <a:custGeom>
            <a:avLst/>
            <a:gdLst>
              <a:gd name="textAreaLeft" fmla="*/ 21600 w 2089080"/>
              <a:gd name="textAreaRight" fmla="*/ 2067480 w 20890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35239" h="21600">
                <a:moveTo>
                  <a:pt x="0" y="0"/>
                </a:moveTo>
                <a:lnTo>
                  <a:pt x="135239" y="0"/>
                </a:lnTo>
                <a:lnTo>
                  <a:pt x="135239" y="21600"/>
                </a:lnTo>
                <a:lnTo>
                  <a:pt x="0" y="21600"/>
                </a:lnTo>
                <a:close/>
              </a:path>
              <a:path fill="lightenLess" w="135239" h="21600">
                <a:moveTo>
                  <a:pt x="0" y="0"/>
                </a:moveTo>
                <a:lnTo>
                  <a:pt x="135239" y="0"/>
                </a:lnTo>
                <a:lnTo>
                  <a:pt x="133839" y="1400"/>
                </a:lnTo>
                <a:lnTo>
                  <a:pt x="1400" y="1400"/>
                </a:lnTo>
                <a:close/>
              </a:path>
              <a:path fill="darken" w="135239" h="21600">
                <a:moveTo>
                  <a:pt x="135239" y="0"/>
                </a:moveTo>
                <a:lnTo>
                  <a:pt x="135239" y="21600"/>
                </a:lnTo>
                <a:lnTo>
                  <a:pt x="133839" y="20200"/>
                </a:lnTo>
                <a:lnTo>
                  <a:pt x="133839" y="1400"/>
                </a:lnTo>
                <a:close/>
              </a:path>
              <a:path fill="darkenLess" w="135239" h="21600">
                <a:moveTo>
                  <a:pt x="135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839" y="20200"/>
                </a:lnTo>
                <a:close/>
              </a:path>
              <a:path fill="lighten" w="135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5239" h="21600">
                <a:moveTo>
                  <a:pt x="60613" y="3794"/>
                </a:moveTo>
                <a:lnTo>
                  <a:pt x="74626" y="10800"/>
                </a:lnTo>
                <a:lnTo>
                  <a:pt x="6061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ите уравнения, предложенные на слай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рьте свое решение с правильным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щелкните по кнопке Решение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6227640" y="6165720"/>
            <a:ext cx="2016360" cy="358920"/>
          </a:xfrm>
          <a:custGeom>
            <a:avLst/>
            <a:gdLst>
              <a:gd name="textAreaLeft" fmla="*/ 23040 w 2016360"/>
              <a:gd name="textAreaRight" fmla="*/ 1993320 w 201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46" h="21600">
                <a:moveTo>
                  <a:pt x="0" y="0"/>
                </a:moveTo>
                <a:lnTo>
                  <a:pt x="121246" y="0"/>
                </a:lnTo>
                <a:lnTo>
                  <a:pt x="121246" y="21600"/>
                </a:lnTo>
                <a:lnTo>
                  <a:pt x="0" y="21600"/>
                </a:lnTo>
                <a:close/>
              </a:path>
              <a:path fill="lightenLess" w="121246" h="21600">
                <a:moveTo>
                  <a:pt x="0" y="0"/>
                </a:moveTo>
                <a:lnTo>
                  <a:pt x="121246" y="0"/>
                </a:lnTo>
                <a:lnTo>
                  <a:pt x="119846" y="1400"/>
                </a:lnTo>
                <a:lnTo>
                  <a:pt x="1400" y="1400"/>
                </a:lnTo>
                <a:close/>
              </a:path>
              <a:path fill="darken" w="121246" h="21600">
                <a:moveTo>
                  <a:pt x="121246" y="0"/>
                </a:moveTo>
                <a:lnTo>
                  <a:pt x="121246" y="21600"/>
                </a:lnTo>
                <a:lnTo>
                  <a:pt x="119846" y="20200"/>
                </a:lnTo>
                <a:lnTo>
                  <a:pt x="119846" y="1400"/>
                </a:lnTo>
                <a:close/>
              </a:path>
              <a:path fill="darkenLess" w="121246" h="21600">
                <a:moveTo>
                  <a:pt x="121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46" y="20200"/>
                </a:lnTo>
                <a:close/>
              </a:path>
              <a:path fill="lighten" w="121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1246" h="21600">
                <a:moveTo>
                  <a:pt x="53616" y="3794"/>
                </a:moveTo>
                <a:lnTo>
                  <a:pt x="67629" y="10800"/>
                </a:lnTo>
                <a:lnTo>
                  <a:pt x="53616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3:12:50Z</dcterms:created>
  <dc:creator>1</dc:creator>
  <dc:description/>
  <dc:language>en-US</dc:language>
  <cp:lastModifiedBy>мвидео</cp:lastModifiedBy>
  <dcterms:modified xsi:type="dcterms:W3CDTF">2017-12-17T08:55:10Z</dcterms:modified>
  <cp:revision>20</cp:revision>
  <dc:subject/>
  <dc:title>Область определения.</dc:title>
</cp:coreProperties>
</file>